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758-453B-430E-9573-D593E804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448-046D-4DFC-B8E7-1052487D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59C-1991-4FAF-92A9-51AB9787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C03-68ED-4185-903B-35D4956A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F71-9E58-489E-9592-DE7A10C7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154-625B-4DE9-A8CD-3FC2F01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47A-BA28-44AD-8384-1A9C44D8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73D-7889-4CFB-A80A-C4D7278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C93-A694-4AE6-B47B-EBCB269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CE7-AF35-4B10-B3C7-7A88F6A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0E7-1A9B-47D5-8205-79E25A8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D27-1B6B-4C77-9DC6-2D384E7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62C-F7CE-4C4A-BF80-2863F58A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549360"/>
            <a:ext cx="4248360" cy="2950920"/>
          </a:xfrm>
          <a:prstGeom prst="wedgeRoundRectCallout">
            <a:avLst>
              <a:gd name="adj1" fmla="val -84194"/>
              <a:gd name="adj2" fmla="val 962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raszam na wycieczkę po Biebrzańskim Parku Narodowy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zywam się Benio i będę waszym przewodniki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232000" cy="246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916280"/>
            <a:ext cx="3384720" cy="792000"/>
          </a:xfrm>
          <a:prstGeom prst="wedgeRoundRectCallout">
            <a:avLst>
              <a:gd name="adj1" fmla="val -22138"/>
              <a:gd name="adj2" fmla="val 235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jęża jednostron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1297080" cy="237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84280"/>
            <a:ext cx="1800000" cy="792360"/>
          </a:xfrm>
          <a:prstGeom prst="wedgeRoundRectCallout">
            <a:avLst>
              <a:gd name="adj1" fmla="val -4675"/>
              <a:gd name="adj2" fmla="val 285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iczka okrągłolist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1187280" cy="2082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40360" y="5157720"/>
            <a:ext cx="3313080" cy="504720"/>
          </a:xfrm>
          <a:prstGeom prst="wedgeRoundRectCallout">
            <a:avLst>
              <a:gd name="adj1" fmla="val -121444"/>
              <a:gd name="adj2" fmla="val -55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dłaki jałowcow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97040" y="4076640"/>
            <a:ext cx="1311120" cy="2300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2057400" cy="232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20000" y="3860640"/>
            <a:ext cx="1352520" cy="237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47640" y="476280"/>
            <a:ext cx="3240360" cy="1295280"/>
          </a:xfrm>
          <a:prstGeom prst="wedgeRectCallout">
            <a:avLst>
              <a:gd name="adj1" fmla="val -54212"/>
              <a:gd name="adj2" fmla="val 161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ż jestem! To może teraz ja pokaże naszym gościom zwierzę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1700280"/>
            <a:ext cx="4535280" cy="1441440"/>
          </a:xfrm>
          <a:prstGeom prst="wedgeEllipseCallout">
            <a:avLst>
              <a:gd name="adj1" fmla="val 13495"/>
              <a:gd name="adj2" fmla="val 106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zeba będzie wtedy zachowywać się cicho, by ich nie spłoszyć – w takim razie ja idę na kaw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43280" y="4581360"/>
            <a:ext cx="3672000" cy="719280"/>
          </a:xfrm>
          <a:prstGeom prst="wedgeRectCallout">
            <a:avLst>
              <a:gd name="adj1" fmla="val -72782"/>
              <a:gd name="adj2" fmla="val 51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alion, to właśnie ten ptak widnieje w godle naszego Par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1420920" cy="1603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1517760" cy="3284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71640" y="5445000"/>
            <a:ext cx="4248360" cy="432000"/>
          </a:xfrm>
          <a:prstGeom prst="wedgeRoundRectCallout">
            <a:avLst>
              <a:gd name="adj1" fmla="val -63453"/>
              <a:gd name="adj2" fmla="val -1602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wa błot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5805360"/>
            <a:ext cx="6551640" cy="792360"/>
          </a:xfrm>
          <a:prstGeom prst="wedgeRoundRectCallout">
            <a:avLst>
              <a:gd name="adj1" fmla="val -78930"/>
              <a:gd name="adj2" fmla="val 69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trzcie! Patrzcie! Tam leci rybitwa białoskrzydł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93080" y="5013360"/>
            <a:ext cx="1420560" cy="160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80360" y="2997360"/>
            <a:ext cx="1512720" cy="792000"/>
          </a:xfrm>
          <a:prstGeom prst="wedgeRoundRectCallout">
            <a:avLst>
              <a:gd name="adj1" fmla="val 5194"/>
              <a:gd name="adj2" fmla="val 2277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Żu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357560" cy="153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27640" y="3429000"/>
            <a:ext cx="2521080" cy="647640"/>
          </a:xfrm>
          <a:prstGeom prst="wedgeRoundRectCallout">
            <a:avLst>
              <a:gd name="adj1" fmla="val -9069"/>
              <a:gd name="adj2" fmla="val 2747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Łoś-proszę nie mylić z łosos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739880" cy="1963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0"/>
            <a:ext cx="7199280" cy="765000"/>
          </a:xfrm>
          <a:prstGeom prst="wedgeRoundRectCallout">
            <a:avLst>
              <a:gd name="adj1" fmla="val -56087"/>
              <a:gd name="adj2" fmla="val 560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sss…..Cicho! Nie spłoszmy B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ołożenie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1547640" cy="174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4508640"/>
            <a:ext cx="6229440" cy="1728720"/>
          </a:xfrm>
          <a:prstGeom prst="wedgeEllipseCallout">
            <a:avLst>
              <a:gd name="adj1" fmla="val -66513"/>
              <a:gd name="adj2" fmla="val 12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rk obejmuje dolinę Biebrzy począwszy od jej źródeł, a skończywszy na ujściu do Narwi. Niemal cały bieg rzeki Biebrzy znajduje się na terenie par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692280"/>
            <a:ext cx="3960720" cy="360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5716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51280" y="765000"/>
            <a:ext cx="4392720" cy="2951280"/>
          </a:xfrm>
          <a:prstGeom prst="cloudCallout">
            <a:avLst>
              <a:gd name="adj1" fmla="val -116319"/>
              <a:gd name="adj2" fmla="val 83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jest herb naszego Par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156360" y="191628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91280" y="6021360"/>
            <a:ext cx="1981080" cy="432000"/>
          </a:xfrm>
          <a:prstGeom prst="wedgeRectCallout">
            <a:avLst>
              <a:gd name="adj1" fmla="val -285337"/>
              <a:gd name="adj2" fmla="val -177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439640" cy="21081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03280" y="2060640"/>
            <a:ext cx="2808360" cy="1512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już koniec naszej wycieczki. Dziękujemy bard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1803240" cy="203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20160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56000" y="1052640"/>
            <a:ext cx="3384720" cy="1368360"/>
          </a:xfrm>
          <a:prstGeom prst="wedgeRectCallout">
            <a:avLst>
              <a:gd name="adj1" fmla="val 22606"/>
              <a:gd name="adj2" fmla="val 144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sznie milo spędziliśmy z wami czas, zapraszamy ponownie, do wid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L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1916280"/>
            <a:ext cx="5616720" cy="2193840"/>
          </a:xfrm>
          <a:prstGeom prst="wedgeRoundRectCallout">
            <a:avLst>
              <a:gd name="adj1" fmla="val -66902"/>
              <a:gd name="adj2" fmla="val 103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erenie Biebrzańskiego Parku Narodowego spotyka się zbiorowiska wodne, bagienne, torfowiskowe, szuwary, a także zbiorowiska leśne . Szczególnie cenna jest duża grupa zbiorowisk mechowiskowych, zawierających liczne gatunki rzadkie i reliktow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698840" cy="1916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189000"/>
            <a:ext cx="4176720" cy="2913120"/>
          </a:xfrm>
          <a:prstGeom prst="wedgeRoundRectCallout">
            <a:avLst>
              <a:gd name="adj1" fmla="val -53953"/>
              <a:gd name="adj2" fmla="val 87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atko!!! Znowu szef mnie wzyw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kawe co teraz nabroiłem, ale na tym wycieczka nie może się zakończy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Zosiu opowiesz naszym uczniom o roślinach i zwierzętach w naszym Park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057400" cy="23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3789360"/>
            <a:ext cx="1598760" cy="280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20000" y="1557360"/>
            <a:ext cx="1728720" cy="1079640"/>
          </a:xfrm>
          <a:prstGeom prst="cloudCallout">
            <a:avLst>
              <a:gd name="adj1" fmla="val -57620"/>
              <a:gd name="adj2" fmla="val 136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ły Ben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4365720"/>
            <a:ext cx="2232000" cy="1727280"/>
          </a:xfrm>
          <a:prstGeom prst="wedgeRoundRectCallout">
            <a:avLst>
              <a:gd name="adj1" fmla="val 110171"/>
              <a:gd name="adj2" fmla="val -43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wnie, że opowiem, to dla mnie sama przyjemnoś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3516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ORA I FAUNA BIEBRZAŃSKIEGO PARKU NARODOWEGO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1434960" cy="2516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76280"/>
            <a:ext cx="2663640" cy="2187720"/>
          </a:xfrm>
          <a:prstGeom prst="wedgeEllipseCallout">
            <a:avLst>
              <a:gd name="adj1" fmla="val -36055"/>
              <a:gd name="adj2" fmla="val 130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 kwiat nazywa się storczyk krwis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20000" y="4508640"/>
            <a:ext cx="1147680" cy="2011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32360" y="4076640"/>
            <a:ext cx="2160720" cy="936720"/>
          </a:xfrm>
          <a:prstGeom prst="wedgeEllipseCallout">
            <a:avLst>
              <a:gd name="adj1" fmla="val 62638"/>
              <a:gd name="adj2" fmla="val 65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uw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po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16720" y="1989000"/>
            <a:ext cx="2303280" cy="648000"/>
          </a:xfrm>
          <a:prstGeom prst="wedgeRoundRectCallout">
            <a:avLst>
              <a:gd name="adj1" fmla="val -8305"/>
              <a:gd name="adj2" fmla="val 400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kolan Bia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80360" y="4292640"/>
            <a:ext cx="1311120" cy="2298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009880" cy="3522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2997360"/>
            <a:ext cx="4321440" cy="1295280"/>
          </a:xfrm>
          <a:prstGeom prst="wedgeRoundRectCallout">
            <a:avLst>
              <a:gd name="adj1" fmla="val 96731"/>
              <a:gd name="adj2" fmla="val 317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 wiem, że kwiatki są piękne, ale nie można ich zrywać, są pod ochron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0"/>
            <a:ext cx="3095640" cy="2232000"/>
          </a:xfrm>
          <a:prstGeom prst="cloudCallout">
            <a:avLst>
              <a:gd name="adj1" fmla="val 564"/>
              <a:gd name="adj2" fmla="val 86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każdym razem to sam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y te dzieci się nie nauczą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1:54:20Z</dcterms:created>
  <dc:creator>Przemek</dc:creator>
  <dc:description/>
  <dc:language>en-US</dc:language>
  <cp:lastModifiedBy>Przemek</cp:lastModifiedBy>
  <dcterms:modified xsi:type="dcterms:W3CDTF">2012-02-02T18:15:43Z</dcterms:modified>
  <cp:revision>6</cp:revision>
  <dc:subject/>
  <dc:title>Slajd 1</dc:title>
</cp:coreProperties>
</file>