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19C-7C86-490C-AADE-986BA08F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B16-5891-4E9A-9AE3-BB0F449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95A-CC52-49C5-9B88-5FCAA4C7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9F7-7F3D-41F7-938E-3F8B49CA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0A1-0145-4819-A774-F46FE3BF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AF6-F121-4443-A484-D5FF9B42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CA1-93ED-42B2-8B97-A85B6A37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E64-D439-4292-969A-45C837BF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A4F-0C3E-40A8-BBEC-A41183A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DEE-ED22-41B8-B1B9-1C943BB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A79-D33F-40D7-A946-D147113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052-E10F-43EB-84DB-3571178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538-C590-4A25-9D6C-F761445A6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hyperlink" Target="http://podroze.gazeta.pl/podroze/56,114158,10397302,Zamek_w_Bobolicach__Straszy__Hrabianka_z_Bobolic,,3.html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2.xml"/><Relationship Id="rId23" Type="http://schemas.openxmlformats.org/officeDocument/2006/relationships/slide" Target="slide24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28600"/>
            <a:ext cx="7543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akacje z duchami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4495680"/>
            <a:ext cx="65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b4258"/>
                </a:solidFill>
                <a:latin typeface="Arial"/>
              </a:rPr>
              <a:t>Przewodnik po najstraszniejszych miejscach w Polsce. Wycieczka do głębi terenów, w których straszy. Prezentacja ta nie jest wskazana dla ludzi ze słabymi nerwami…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403884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520" y="5181480"/>
            <a:ext cx="1447560" cy="139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57600" y="1981080"/>
            <a:ext cx="5029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800080"/>
                </a:solidFill>
                <a:latin typeface="KaiTi"/>
              </a:rPr>
              <a:t>W dawnym Pałacu Działyńskich w kórniku w pobliżu Poznania pojawia się nocami widmo dawnej pani tego zamku Teofili Z Działdyńskich Szołdrskiej Potulickiej. Jak wyglądała za życia przypomina portret francuskiego malarza Antoniego Pesne, przedstawiający młodą </a:t>
            </a:r>
            <a:r>
              <a:rPr b="1" lang="pl-PL" sz="1600" spc="-1" strike="noStrike" u="sng">
                <a:solidFill>
                  <a:srgbClr val="800080"/>
                </a:solidFill>
                <a:uFillTx/>
                <a:latin typeface="KaiTi"/>
              </a:rPr>
              <a:t>jeszcze</a:t>
            </a:r>
            <a:r>
              <a:rPr b="1" lang="pl-PL" sz="1600" spc="-1" strike="noStrike">
                <a:solidFill>
                  <a:srgbClr val="800080"/>
                </a:solidFill>
                <a:latin typeface="KaiTi"/>
              </a:rPr>
              <a:t> kobietę w białej peruce i takiejż krynolinie pochylającą się w dworskim ukłonie.</a:t>
            </a:r>
            <a:br>
              <a:rPr sz="1600"/>
            </a:br>
            <a:r>
              <a:rPr b="1" lang="pl-PL" sz="1600" spc="-1" strike="noStrike">
                <a:solidFill>
                  <a:srgbClr val="800080"/>
                </a:solidFill>
                <a:latin typeface="KaiTi"/>
              </a:rPr>
              <a:t>Nocą tuż przed dwunastą, dama na portrecie ożywa, wychodzi z ram i aż do świtu przechadza się po salach i parku. W rodzinnej tradycji Działdyńskich zachowało się wiele opowieści o pani Teofili, która byla daleką prababką tej rodziny. Żyła w wieku osiemnastym. Była podobno niezwykle jak na owe czasy wykształcona, całymi kuframi sprowadzała księgi z Paryża, miała nawet pracownię, gdzie wykonywała doświadczenia chemiczne. Przeżyła dwóch mężów, z którymi nie była chyba zbyt szczęśliw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3880" y="533520"/>
            <a:ext cx="5334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ała Dama z Kórnik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09096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14300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04920"/>
            <a:ext cx="8153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Arial"/>
              </a:rPr>
              <a:t>Pani Teofila, jak wielu arystokratów w owym okresie nie była zbyt pobożna, zaniedbywała praktyki religijne i wiodła spory z miejscowym proboszczem. W obrębie jej dóbr znajdowały się ruiny dawnego myśliwskiego zameczku rodu Górków, którzy niegdyś władali tymi ziemiami. Podobno w piwnicach budowli ukryli oni skarby, powierzając nad nimi pieczę złym mocom. Moc ich mogła być tylko wtedy pokonana, jeśli na miejsce to uda się ksiądz z procesją. musi jednak uważać, aby nie zapomnieć niczego z przepisanych obrzędów, a próbować może tylko trzy razy.</a:t>
            </a:r>
            <a:br>
              <a:rPr sz="1800"/>
            </a:br>
            <a:r>
              <a:rPr b="0" lang="pl-PL" sz="1800" spc="-1" strike="noStrike">
                <a:solidFill>
                  <a:srgbClr val="800080"/>
                </a:solidFill>
                <a:latin typeface="Arial"/>
              </a:rPr>
              <a:t>Podobno za czasów pani Teofili trzykrotnie wybierał się bniński proboszcz, aby uwolnić skarby od niesamowitych strażników, ale za każdym razem coś przeoczył. Pani Teofila śmiała się z niego i kazała rozebrać ruiny a cegły użyć na budulec. Skarbów nie znalezi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810160" cy="308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33520" y="594360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685800"/>
            <a:ext cx="85341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Zmierzamy w kierunk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astępnego punktu naszej wycieczk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438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8000"/>
                </a:solidFill>
                <a:latin typeface="Arial"/>
              </a:rPr>
              <a:t>Zamek położony w  południowej części Gór Wałbrzyskich na szczycie góry Choina (450m n.p.m.) wznoszącej się nad lewym brzegiem Bystrzycy. Dolina tej rzeki, zwana kiedyś Śląską Doliną, stanowi naturalną granicę między Górami Sowimi i położonymi na zachód od nich Góram Wałbrzyskimi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57400" y="228600"/>
            <a:ext cx="4643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Zamek Grod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3810240" cy="263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76960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286000" y="22860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iała Dama na Grodn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905120"/>
            <a:ext cx="4343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d niepamiętnych czasów na zamku Grodno pojawia się Biała Dama. Nikt nie wie dokładnie, co to za tajemnicza zjawa. Jedni mówią, że to duch uśmierconej przed wiekami niewiasty z Zagórza, którą zły burgrabia wtrącił  do więziennego lochu. Inni powiadają, że to duch dawnej pani zamku, która ze zgryzoty po utracie męża rzuciła się przy świetle księżyca do studni, a jeszcze inni utrzymują, że to wiecznie pokutujący duch księżniczki pogańskiej, która nie przyjęła wiary chrześcijańskiej i przyczyniła się do okrutnego morderstwa na przybyłym tu z Dobrą Nowiną misjonar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6960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990720"/>
            <a:ext cx="7391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ła Dama była już przyczyną różnych zdarzeń, o których najlepiej opowiedzieć by mogły sędziwe mury tego zamczyska. Kiedyś burgrabia chciał ożenić swego syna, który już i wiek osiągnął dojrzały i wojować dzielnie potrafił, ten jednak gdy powrócił z kolejnej wyprawy, ujrzał przelotnie na zamku piękną dziewczynę, której nie mógł już zapomnieć. Na nic zdały się perswazje i nalegania ojca. Zakochany młodzieniec wierzył, że jego wybranka pojawi się jeszcze i wówczas poprosi ją o rękę. I rzeczywiście, pewnego wieczoru ujrzał ją znowu, podążył za nią na górny dziedziniec, a gdy owa wysmukła, piękna postać zniknęła w głębokiej studni – rzucił się tam również. Od tego czasu także jego duch błąka się po zamkowych komnat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76236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048120" y="228600"/>
            <a:ext cx="3085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istorie o Dam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40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362400"/>
            <a:ext cx="73915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f01"/>
                </a:solidFill>
                <a:latin typeface="Arial"/>
              </a:rPr>
              <a:t>Było już ciemno, gdy piękna Adelajda zapragnęła wyjść na dziedziniec, by zaczerpnąć świeżego, rześkiego powietrza i rozkoszować się romantyczną okolicą. Bardzo dyskretnie opuściła zatem towarzystwo i niepostrzeżenie przemknęła przez korytarz. Przy sali rycerskiej zauważył ją jednak czujny i wyczekujący takiej okazji Bernard. Odczekał więc chwilę, a kiedy przez okno ujrzał białą postać wychodzącą już z sieni na dziedziniec, szybko podążył za nią, – Adelajdo, to ty? – spytał półgłosem. Ona skinęła tylko na niego i wolnym krokiem podeszła do studni. Na moment jakby zastygła w bezruchu i nagle zniknęła w jej głębi. Nieszczęsny Bernard z przerażeniem zaczął wzywać pomocy. Wszyscy na zamku zerwali się na równe nogi i zbiegli, by zobaczyć, co się stało. Zbiegły też młode szlachcianki na czele z... Adelajdą. Gdy tedy ujrzał ją młody rycerz całą i zdrową rzucił się do jej stóp i wyznał otwarcie swą miłość, zaś rodzice młodych, cóż było robić, udzielili im swego błogosławieństwa. A zatem wszystko skończyło się szczęśliwie, zaś całą tę historię złożono na karb młodzieńczej wyobraźni. Tylko stary zamkowy strażnik uśmiechał się tajemniczo i spoglądał w miejsce, skąd najczęściej rozpoczyna swą wędrówkę tajemnicza Biała Da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796284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743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819520" y="380880"/>
            <a:ext cx="3429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abł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895480"/>
            <a:ext cx="7619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Poza istotami,czyli duchami, istnieją również pozaziemskie istoty-Diabł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Diabeł-w judaizmie i </a:t>
            </a:r>
            <a:r>
              <a:rPr b="1" lang="pl-PL" sz="1800" spc="-1" strike="noStrike" u="sng">
                <a:solidFill>
                  <a:srgbClr val="0000cc"/>
                </a:solidFill>
                <a:uFillTx/>
                <a:latin typeface="Arial"/>
              </a:rPr>
              <a:t>chrześcijaństwie</a:t>
            </a: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 ogólna nazwa złych, upadłyc aniołów; inne określenia: </a:t>
            </a:r>
            <a:r>
              <a:rPr b="1" i="1" lang="pl-PL" sz="1800" spc="-1" strike="noStrike">
                <a:solidFill>
                  <a:srgbClr val="0000cc"/>
                </a:solidFill>
                <a:latin typeface="Arial"/>
              </a:rPr>
              <a:t>szatan</a:t>
            </a: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i="1" lang="pl-PL" sz="1800" spc="-1" strike="noStrike">
                <a:solidFill>
                  <a:srgbClr val="0000cc"/>
                </a:solidFill>
                <a:latin typeface="Arial"/>
              </a:rPr>
              <a:t>demon</a:t>
            </a: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.  Spotykamy je też u nas w ojczystym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96284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447920"/>
            <a:ext cx="69436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Kolejnym obiektem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jest miejscowośc Tum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76520" y="4572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Kolegiata w Tumie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9092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kolegiata NMP i św. Aleksego w Tum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(archikolegiata łęczycka) – kościół znajdujący się w pobliżu dawnej lokalizacji wczesnośredniowieczne gogrodu. Należy do najlepszych przykładów architektury romańskiej w Pols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/>
          </p:cNvPr>
          <p:cNvSpPr/>
          <p:nvPr/>
        </p:nvSpPr>
        <p:spPr>
          <a:xfrm>
            <a:off x="760248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57800" y="3886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50532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3720" y="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is treśc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830556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ś o duchu</a:t>
            </a: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ierwszym obiektem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chał Sędziwó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chemik z Nowego Sącz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Wyglą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Kolejne miejsce 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Pałac Działyńskich w Poznani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Biała Dama z Kórnik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ani Teofilia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Zmierzamy w kierunku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Zamek Grodno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Biała Dama na Grodn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Historie o Dam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Diabły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Kolejnym obiektem jest </a:t>
            </a: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miejscowośc</a:t>
            </a: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Tum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Kolegiata w Tum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Straszy-Borut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Charak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Legenda o diab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Koni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209680" y="60948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raszy-Boruta..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438280"/>
            <a:ext cx="510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990f01"/>
                </a:solidFill>
                <a:latin typeface="Arial"/>
              </a:rPr>
              <a:t>Diabeł Boruta jest przedstawiany bardzo różnie, nie powinno to jednak nikogo dziwić, gdyż może on przybierać różne postacie. Typową i ulubioną, stąd najczęściej spotykaną postacią, jest Boruta szlachcic, zwany też Borutą tumskim lub po prostu Czarnym. Był to wysoki szlachcic z długimi, czarnymi wąsiskami, o czarnych oczach, ubrany w bogaty kontusz zakrywający ogon, no i czapkę zasłaniającą rog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0880" y="2057400"/>
            <a:ext cx="27036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010280" y="6019920"/>
            <a:ext cx="118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666880" y="685800"/>
            <a:ext cx="3810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harakte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74320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 postacią Boruty młynarza nawiedzał nocami okoliczne młyny, potajemnie rozdając potem zmieloną przez siebie mąkę biednym mieszkańcom miasta. Obecność tego diabła mógł też potwierdzać nagle zapalający się i szybko gasnący ogień. We wszystkich legendach poświęconych diabłu Borucie wykazuje się on dużą przebiegłością, sprytem oraz nadludzką siłą. Zazwyczaj ludzi przechytrza za pomocą swoich "diabelskich sztuczek". Jednak w wielu legendach, objawia się też jako dobroczyńca, pomagający biedn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3124440" cy="24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960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5120" y="762120"/>
            <a:ext cx="571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egenda o diable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396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murze podłęczyckiej kolegiaty w Tumie widać ślady wielkiej łapy. Legenda mówi, że to diabeł Boruta próbował przewrócić świątynię. A było tak: Boruta miał się zakochać w dziewczynie i na jej prośbę nosić kamienie na budowę karczmy, a w rzeczywistości - kościoła. Gdy diabeł dowiedział się prawdy, postanowił kościół zniszczy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4038480" cy="2955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094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12952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Z Borutą czy bez, 850-letnia kolegiata w Tumie warta jest obejrzenia. Romańską bryłę świątyni widać dobrze z drogi z Warszawy do Łęczycy. Kolegiata leży około 3 km od centrum Łęczycy. Niestety, niełatwo obejrzeć wnętrze kolegiaty, można to robić tylko w niedziele między mszami, w inne dni - tylko jeśli uda się przekonać miejscowego proboszcza do otwarcia kościoł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960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9320"/>
            <a:ext cx="85341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niec. Dziękujemy za uwagę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 zachęcamy do zwiedzania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181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ę wykonali: Marta Grabowska kl. I LO, Tomasz Grabowski kl. II 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33720" y="53352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ś o duch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579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Blue Highway Linocut"/>
              </a:rPr>
              <a:t>Duch – w folklorze ludowym i według spirytystów ludzką istota, żyjąca po śmierci fizycznej ciała człowieka, bytująca w świecie pozamaterialn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Blue Highway Linocut"/>
              </a:rPr>
              <a:t>Jedno z artystycznych wyobrażeń ducha typowe dla kultury współczesn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Blue Highway Linocut"/>
              </a:rPr>
              <a:t>Zgodnie doktryną spirytyzmu duchy żyją w świecie niewidzialnym, znajdującym się poza czasoprzestrzenią świata materialnego; w innym wymiarze bytowania są wszędzie, przesyłają komunikaty za pośrednictwem mediów lub bezpośrednio. Według tej koncepcji duch i dusza są synonimami.  Wiele z takich istot możemy spotykać w życiu codzienn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8098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0102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762120"/>
            <a:ext cx="86104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erwszym naszym obieka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st rynek w Nowym Sącz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91440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ichał Sędziwó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505320"/>
            <a:ext cx="7315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99cc00"/>
                </a:solidFill>
                <a:latin typeface="Arial"/>
              </a:rPr>
              <a:t>Urodził się w Łukowicy koło Nowego Sącza jako syn szlachcica polskiego Jakuba Sędzimira i Katarzyny Pielszówny z Rogów. </a:t>
            </a:r>
            <a:r>
              <a:rPr b="1" i="1" lang="pl-PL" sz="1400" spc="-1" strike="noStrike" u="sng">
                <a:solidFill>
                  <a:srgbClr val="99cc00"/>
                </a:solidFill>
                <a:uFillTx/>
                <a:latin typeface="Arial"/>
              </a:rPr>
              <a:t>Ojciec</a:t>
            </a:r>
            <a:r>
              <a:rPr b="1" i="1" lang="pl-PL" sz="1400" spc="-1" strike="noStrike">
                <a:solidFill>
                  <a:srgbClr val="99cc00"/>
                </a:solidFill>
                <a:latin typeface="Arial"/>
              </a:rPr>
              <a:t> nie szczędził środków na naukę i wychowanie Michała. Zamierzał skierować go do stanu duchownego w zakonie jezuitów. Pierwsze nauki pobierał w szkole przyklasztornej w Krakowie. Kolejnym krokiem w edukacji były studia w Akademii Krakowskiej, gdzie miał poświęcić się filozofii, retoryce, teologii oraz naukom ścisłym: geometrii, astronomii i mechanice. Tam też po raz pierwszy zetknął się z alchemią i nowymi ideami w medycynie, propagowanymi przez głośnego w tych czasach lekarza Paracelsusa. W tym czasie przebywali w Krakowie dwaj słynni alchemicy angielscy John Dee oraz Edward Kelley. Sędziwój nawiązał z nimi bliższy kontakt, a w szczególności uległ wpływom Kelleya, z którym spotkał się ponownie w Czechach. Sędziwój poświęcił się całkowicie badaniu pism lekarskich i alchemicznych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ichał Sędziwój"/>
          <p:cNvPicPr/>
          <p:nvPr/>
        </p:nvPicPr>
        <p:blipFill>
          <a:blip r:embed="rId2"/>
          <a:stretch/>
        </p:blipFill>
        <p:spPr>
          <a:xfrm>
            <a:off x="6437160" y="685800"/>
            <a:ext cx="222120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0102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52388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1800" spc="-1" strike="noStrike">
                <a:solidFill>
                  <a:srgbClr val="ff66ff"/>
                </a:solidFill>
                <a:latin typeface="Arial"/>
              </a:rPr>
              <a:t>Nocami na rynku w Nowym Sączu spotkać można zjawę człowieka, który w siedemnastym stuleciu uchodził za jednego z najznakomitszych alchemików Europy. To Michał Sędziwój nawiedza miejsca, gdzie spędził swoje lata chłopięce i ponoć pobierał pierwsze nauki. </a:t>
            </a:r>
            <a:br>
              <a:rPr sz="1800"/>
            </a:br>
            <a:r>
              <a:rPr b="1" lang="pl-PL" sz="1800" spc="-1" strike="noStrike">
                <a:solidFill>
                  <a:srgbClr val="ff66ff"/>
                </a:solidFill>
                <a:latin typeface="Arial"/>
              </a:rPr>
              <a:t>Kroczy w uniwersyteckiej todze z podniesioną głową, jego postać nie rzuca cienia nawet przy pełni księżyca. Widmowe dukaty, które rozrzuca wokół, padajaą bezdzwięcznie i znikają nad ranem. </a:t>
            </a:r>
            <a:br>
              <a:rPr sz="1800"/>
            </a:br>
            <a:r>
              <a:rPr b="1" lang="pl-PL" sz="1800" spc="-1" strike="noStrike">
                <a:solidFill>
                  <a:srgbClr val="ff66ff"/>
                </a:solidFill>
                <a:latin typeface="Arial"/>
              </a:rPr>
              <a:t>Przepowiednia głosi, że ten kto spotka alchemika, będzie miał szczęście, szczególnie w zdobywaniu wiedzy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9320" y="533520"/>
            <a:ext cx="658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chemik z Nowego Sącz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114720" cy="234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594360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ddhome"/>
          <p:cNvPicPr/>
          <p:nvPr/>
        </p:nvPicPr>
        <p:blipFill>
          <a:blip r:embed="rId1"/>
          <a:stretch/>
        </p:blipFill>
        <p:spPr>
          <a:xfrm>
            <a:off x="1905120" y="5335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5105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 Black"/>
              </a:rPr>
              <a:t>Jego duch kroczy w uniwersyteckiej todze z podniesioną głową,  postać ta nie rzuca cienia nawet przy pełni księżyca. Widmowe dukaty, które rozrzuca wokół, padają bezdźwięcznie i znikają nad ranem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9608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685800"/>
            <a:ext cx="85438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rzedstawiamy kolejn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iejsc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nawiedzone przez zjawę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62520" y="2057400"/>
            <a:ext cx="4572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a50021"/>
                </a:solidFill>
                <a:latin typeface="Arial Black"/>
              </a:rPr>
              <a:t>Znajduje się na posesji Stary Rynek 78. Powstał w latach 1773 - 1776 w miejscu dwóch istniejących tu poprzednio kamienic. Jego pierwszym właścicielem był Władysław Roch Gurowski - marszałek wielki litewski. W 1808 znalazł się w posiadaniu rodu Działyńskich, których własnością pozostawał do 1880 roku, gdy zmarł bezpotomnie Jan Kanty Działyński. Następnym właścicielem był Władysław Zamoyski, który włączył pałac w stworzoną przez siebie Fundację Zakłady Kórnickie przekazaną w 1924 narodowi polskiemu. Podczas walk w 1945 budynek doszczętnie spłonął. Odbudowano go w latach 1953 - 1957 zaniechano jednak odtworzenia skrzydła zachodniego i ogrodu francuskiego twierdząc, że były one wyrazem "kaprysu możnego właściciela" stanowiącego "wsteczny układ urbanistyczny".</a:t>
            </a:r>
            <a:r>
              <a:rPr b="1" lang="pl-P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71600" y="380880"/>
            <a:ext cx="5562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łac Działyńskich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 Poznaniu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2895480" cy="385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620120" y="613404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eśc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38:40Z</dcterms:created>
  <dc:creator>Tomek</dc:creator>
  <dc:description/>
  <dc:language>en-US</dc:language>
  <cp:lastModifiedBy>student002d</cp:lastModifiedBy>
  <dcterms:modified xsi:type="dcterms:W3CDTF">2012-02-16T10:26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