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62B0-AE6E-431B-9679-0E4BD29B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2BE6-1BE0-431E-86C9-7B7DA557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FA50-5A0C-4652-B49F-6C44525C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B133-E6AD-4B2C-8ED8-A50C4597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071-460F-4138-A422-A1BAE4B6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98C6-C67C-4ED7-987B-93E0B0A9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B7B7-AAE9-49A8-804B-B2F8BF19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3E67-8D4E-4188-A439-280E24D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39B2-1653-4177-A5A1-188295D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D694-88C7-4FA2-AF55-C5909CE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DCF9-0DB7-436A-8172-842614A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E520-019B-4323-91C6-0FEF7FC2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7E12-D2B3-4482-93D3-9D2978C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245F-B491-41E3-8EC5-C06BD0A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9D25-11A5-4F87-8A47-BD3B2CD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146-B554-4FA7-A306-DC4B10F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EBE6-D40D-435E-862C-B90474C7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4B53-C562-496B-AC2A-23A00A0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B94F-1DFF-4227-8240-D7A9156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01AE-474B-438E-930A-3F16F8D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6A88-A02D-41F8-B2CB-3BDEF4E7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586B-C26A-4BF0-8C8E-0C25BA0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F5C0-3A9C-40D4-82C3-B299E10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3C35-F89A-43A4-9E39-02DAC708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D5E-BABC-4FB5-93E5-D4F1C76C59E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2F3A-AA10-443A-BB5E-BDE21B0AB116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507400">
            <a:off x="1332000" y="3500280"/>
            <a:ext cx="1890720" cy="2016360"/>
          </a:xfrm>
          <a:prstGeom prst="rect">
            <a:avLst/>
          </a:prstGeom>
          <a:ln w="76320">
            <a:solidFill>
              <a:srgbClr val="eeb9a8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I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N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T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E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R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N</a:t>
            </a:r>
            <a:r>
              <a:rPr b="1" i="1" lang="en-US" sz="7500" spc="-1" strike="noStrike">
                <a:solidFill>
                  <a:srgbClr val="e37796"/>
                </a:solidFill>
                <a:latin typeface="Monotype Corsiva"/>
              </a:rPr>
              <a:t>E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T</a:t>
            </a:r>
            <a:br>
              <a:rPr sz="7500"/>
            </a:b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-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b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e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z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p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i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e</a:t>
            </a:r>
            <a:r>
              <a:rPr b="1" i="1" lang="en-US" sz="7500" spc="-1" strike="noStrike">
                <a:solidFill>
                  <a:srgbClr val="db5178"/>
                </a:solidFill>
                <a:latin typeface="Monotype Corsiva"/>
              </a:rPr>
              <a:t>c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z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n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e 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o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k</a:t>
            </a: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n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o 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n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a </a:t>
            </a:r>
            <a:br>
              <a:rPr sz="7500"/>
            </a:br>
            <a:r>
              <a:rPr b="1" i="1" lang="en-US" sz="7500" spc="-1" strike="noStrike">
                <a:solidFill>
                  <a:srgbClr val="de6084"/>
                </a:solidFill>
                <a:latin typeface="Monotype Corsiva"/>
              </a:rPr>
              <a:t>ś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w</a:t>
            </a:r>
            <a:r>
              <a:rPr b="1" i="1" lang="en-US" sz="7500" spc="-1" strike="noStrike">
                <a:solidFill>
                  <a:srgbClr val="eb9db3"/>
                </a:solidFill>
                <a:latin typeface="Monotype Corsiva"/>
              </a:rPr>
              <a:t>i</a:t>
            </a:r>
            <a:r>
              <a:rPr b="1" i="1" lang="en-US" sz="7500" spc="-1" strike="noStrike">
                <a:solidFill>
                  <a:srgbClr val="d8c1ba"/>
                </a:solidFill>
                <a:latin typeface="Monotype Corsiva"/>
              </a:rPr>
              <a:t>a</a:t>
            </a:r>
            <a:r>
              <a:rPr b="1" i="1" lang="en-US" sz="7500" spc="-1" strike="noStrike">
                <a:solidFill>
                  <a:srgbClr val="e37796"/>
                </a:solidFill>
                <a:latin typeface="Monotype Corsiva"/>
              </a:rPr>
              <a:t>t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743200" y="5157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 u="sng">
                <a:solidFill>
                  <a:srgbClr val="5e4444"/>
                </a:solidFill>
                <a:uFillTx/>
                <a:latin typeface="ParkAvenue BT"/>
              </a:rPr>
              <a:t>Anna Jaroszewska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db517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Rozrywka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Internet jest dzisiaj bardzo popularną rozrywką, szczególnie dla młodych ludzi. Większość z nas wie, że w sieci można robić bardzo dużo ciekawych rzeczy, jak na przykład słuchanie muzyki czy oglądanie filmów. Na internecie możemy znależć wiele darmowych stron z z ciekwymi utworami zarówno muzycznymi jak i kfilmowymi. Wielu ludzi lubi też pograć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676c7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Kształcenie i nauka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Kiedy w szkole dostaniemy prace domową, 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którą odpowiedzi nie znamy często sięgamy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internetowych słowników, encyklopedii it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Dzięki internetowi możemy się też czego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nauczyć. To w internecie możemy znaleź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wiele porad, kursów i odpowiedzi na nurtują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nas pytan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a69564"/>
          </a:solidFill>
          <a:ln w="28440">
            <a:solidFill>
              <a:srgbClr val="7a6c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yberprzemoc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6e3aa"/>
                </a:solidFill>
                <a:latin typeface="Garamond"/>
              </a:rPr>
              <a:t>	</a:t>
            </a:r>
            <a:r>
              <a:rPr b="1" i="1" lang="pl-PL" sz="2000" spc="-1" strike="noStrike" u="sng">
                <a:solidFill>
                  <a:srgbClr val="e6e3aa"/>
                </a:solidFill>
                <a:uFillTx/>
                <a:latin typeface="Garamond"/>
              </a:rPr>
              <a:t>Cyberprzemoc</a:t>
            </a:r>
            <a:r>
              <a:rPr b="1" lang="pl-PL" sz="2000" spc="-1" strike="noStrike">
                <a:solidFill>
                  <a:srgbClr val="e6e3aa"/>
                </a:solidFill>
                <a:latin typeface="Garamond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to inaczej przemoc z użyciem mediów elektronicznych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rzede wszystkim Internetu i telefonów komórkowych.  Problem 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dotyczy przede wszystkim dzieci i młodzieży. W Polsce doświadcza g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onad połowa młodych internautów!!! Do działań określanych jak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cyberprzemoc zalicza się m.in: 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fa67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wyzywanie, straszenie poniżanie kogoś w Internecie lub przy użyciu telefonu,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fa67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robienie komuś zdjęć lub rejestrowanie filmów bez jego zgody,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fa67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ublikowanie w Internecie lub rozsyłanie telefonem zdjęć, filmów lub tekstów, które kogoś obrażają lub ośmieszają,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fa67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odszywanie się pod kogoś w Siec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omimo, że akty cyberprzemocy mogą wyglądać niewinnie, to potrafi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wyrządzać bardzo dużą krzywdę, więc uważajmy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554525"/>
          </a:solidFill>
          <a:ln w="57240">
            <a:solidFill>
              <a:srgbClr val="7f6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e6e3aa"/>
          </a:solidFill>
          <a:ln w="38160">
            <a:solidFill>
              <a:srgbClr val="b49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Wirusy 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 u="sng">
                <a:solidFill>
                  <a:srgbClr val="d8c1ba"/>
                </a:solidFill>
                <a:uFillTx/>
                <a:latin typeface="Garamond"/>
              </a:rPr>
              <a:t>Wirus komputerowy-</a:t>
            </a:r>
            <a:r>
              <a:rPr b="0" lang="pl-PL" sz="2200" spc="-1" strike="noStrike">
                <a:solidFill>
                  <a:srgbClr val="f7f3f3"/>
                </a:solidFill>
                <a:latin typeface="Garamond"/>
              </a:rPr>
              <a:t>  </a:t>
            </a:r>
            <a:r>
              <a:rPr b="1" lang="pl-PL" sz="2200" spc="-1" strike="noStrike">
                <a:solidFill>
                  <a:srgbClr val="f7f3f3"/>
                </a:solidFill>
                <a:latin typeface="Garamond"/>
              </a:rPr>
              <a:t>program komputerowy posiadający zdolność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7f3f3"/>
                </a:solidFill>
                <a:latin typeface="Garamond"/>
              </a:rPr>
              <a:t>replikacji, tak jak prawdziwy wirus - stąd jego nazwa. Wirus d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7f3f3"/>
                </a:solidFill>
                <a:latin typeface="Garamond"/>
              </a:rPr>
              <a:t>swojego działania potrzebuje i wykorzystuje system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7f3f3"/>
                </a:solidFill>
                <a:latin typeface="Garamond"/>
              </a:rPr>
              <a:t>operacyjny, aplikacje oraz zachowanie użytkownika komputera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7f3f3"/>
                </a:solidFill>
                <a:latin typeface="Garamond"/>
              </a:rPr>
              <a:t>	</a:t>
            </a:r>
            <a:r>
              <a:rPr b="1" lang="pl-PL" sz="2200" spc="-1" strike="noStrike">
                <a:solidFill>
                  <a:srgbClr val="f7f3f3"/>
                </a:solidFill>
                <a:latin typeface="Garamond"/>
              </a:rPr>
              <a:t>Wirusy bardzo często przesyłane są nam pocztą elektroniczną w postaci listu. Bardzo często zdarz się, że go uaktywnimy. Niechcianego gościa znależć można na wielu stronach internetowych itd.. Taki mały wirus w naszym komputerze może wiele zaszkodzić więc UWAŻAJMY!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eeb9a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db517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Uzależnienie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Internet jest szczególnie groźnym i uzależniającym medium. Godzi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spędzane w sieci to czas odebrany pracy, nauce czy życiu rodzinnem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Uzależnienie od Internetu staje się coraz poważniejszym problem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społecznym. Dotyka przede wszystkim osoby mieszkające samotnie ora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nie mające stałego zajęcia. "Liczba osób uzależnionych od Internet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rzekracza w niektórych państwach uprzemysłowionych liczb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uzależnionych od narkotyków pochodzących z maku i jest koniecz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odjęcie kroków przeciwko tej nowej chorobie" - ocenia austriac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specjalista Hurbert Poppe, specjalizujący się z terapiach odchodzenia 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uzależnień narkotykowych. Jeśli często łączymy się z Internetem... Jeśl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zbyt często łączymy się z Internetem i ciągle uważamy, że to nie j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problem, warto przemyśleć to dokładnie jeszcze raz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Pornografia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Coraz częściej dzieci w internecie stykają się z pornografią . Z roku 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rok szerzy się ona coraz bardziej. Nasze dzieci niekeiedy nie zdają sob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sprawy jakie skutki mogą ponieść. Z pornografią coraz częściej może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spotkać się w mediach, gazetach czy internecie. Materiały pornograficz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dostępne są w internecie w formie zdjęć, filmów wideo oraz "pokazów 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żywo" przez kamerę wideo. Część jest dostępna bezpłatnie w cel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zachęcenia do korzystania z pornografii na zasadach komercyjny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(płatny miesięczny abonament). Dostęp do treści pornograficznych w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Internecie jest prosty (również dla dzieci) . Stanowi to poważny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b2500"/>
                </a:solidFill>
                <a:latin typeface="Garamond"/>
              </a:rPr>
              <a:t>wychowawczy dla rodziców i opiekunó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a69564"/>
          </a:solidFill>
          <a:ln w="38160">
            <a:solidFill>
              <a:srgbClr val="b49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554525"/>
          </a:solidFill>
          <a:ln w="57240">
            <a:solidFill>
              <a:srgbClr val="efd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Bezpieczeństwo-oprogramowania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Dzięki postępowi techniki mamy wielk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medium jakim jest internet. Niesie ono za sob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zarówno alety jaki i wady. Istnieją jed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oprogramowania, które mogą zabezpieczyć nas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komputer brrzed niepożądanymi gośćmi jakimi s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irusy. Większość oprogramowań jest bepłatna, jed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za część musimy zapłacić, co może wyjść nam 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dobre. Zawsze lepiej kupić jest antywirus niż płaci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kary za to, że go jednak nie mieliśm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676c7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e6e3a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Złote zasad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e827c"/>
                </a:solidFill>
                <a:uFillTx/>
                <a:latin typeface="Garamond"/>
              </a:rPr>
              <a:t>Zasady korzystania z internetu</a:t>
            </a:r>
            <a:r>
              <a:rPr b="1" i="1" lang="en-US" sz="2800" spc="-1" strike="noStrike" u="sng">
                <a:solidFill>
                  <a:srgbClr val="ce827c"/>
                </a:solidFill>
                <a:uFillTx/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Nie umawiaj się z osobami, których nie znas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Nie podawaj swoich dany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Nie ściągaj nie znanych Ci plikó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Zawsze czytaj umowy zanim na coś się zgodzis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Nie otwieraj nieznanych str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Wchodź tylko na bezpieczne strony, profile i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Mów osobom starszym kiedy coś Ci zagraż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403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de9"/>
                </a:solidFill>
                <a:latin typeface="Garamond"/>
              </a:rPr>
              <a:t>Zainstaluj zabezpieczające oprogramowa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db517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eeb9a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dddddd"/>
                </a:solidFill>
                <a:latin typeface="Garamond"/>
              </a:rPr>
              <a:t>Warto wiedzieć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bcbc"/>
                </a:solidFill>
                <a:uFillTx/>
                <a:latin typeface="Garamond"/>
              </a:rPr>
              <a:t>Pisown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łowo "Internet" pisze się wielką literą mając na myś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onkretną, globalną sieć komputerową – jest to wtedy nazw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łasna. W niektórych przypadkach poprawna jest jedn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isownia małą literą– gdy pisze się o Internecie jako nośni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medium) informacyjnym, np. "przeczytałem to w internecie„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ub używając skrótu myślowego w odniesieniu do fizyczneg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łącza telekomunikacyjnego, np."internet mobilny", "intern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zewodowy", "internet ADSL". Czasami używa się też słow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"internet" pisanego małą literą w odniesieniu do poję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kstranet (połączona ze sobą grupa sieci komputerowych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676c7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69564"/>
                </a:solidFill>
                <a:latin typeface="Garamond"/>
              </a:rPr>
              <a:t>Źródła </a:t>
            </a:r>
            <a:endParaRPr b="1" lang="en-US" sz="5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Wikiped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Grafika internetow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Strony internetow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2500"/>
                </a:solidFill>
                <a:latin typeface="Garamond"/>
              </a:rPr>
              <a:t>Słownik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a69564"/>
          </a:solidFill>
          <a:ln w="28440">
            <a:solidFill>
              <a:srgbClr val="7a6c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b9b9b"/>
                </a:solidFill>
                <a:latin typeface="Monotype Corsiva"/>
              </a:rPr>
              <a:t>Spis treści cz.1</a:t>
            </a:r>
            <a:endParaRPr b="1" lang="en-US" sz="5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iekawost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alety Interne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ady Interne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pis kilku wad i zalet interne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ale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omunikac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stęp do informacj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ozryw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ształcenie i nau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676c7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 rot="997200">
            <a:off x="5940000" y="4005360"/>
            <a:ext cx="1582920" cy="1441440"/>
          </a:xfrm>
          <a:prstGeom prst="rect">
            <a:avLst/>
          </a:prstGeom>
          <a:ln w="76320">
            <a:solidFill>
              <a:srgbClr val="eeb9a8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20349000">
            <a:off x="1331640" y="3499920"/>
            <a:ext cx="3313080" cy="2808360"/>
          </a:xfrm>
          <a:prstGeom prst="rect">
            <a:avLst/>
          </a:prstGeom>
          <a:ln w="76320">
            <a:solidFill>
              <a:srgbClr val="e6947a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eeb9a8"/>
                </a:solidFill>
                <a:latin typeface="ParkAvenue BT"/>
              </a:rPr>
              <a:t>K</a:t>
            </a:r>
            <a:r>
              <a:rPr b="1" lang="en-US" sz="12000" spc="-1" strike="noStrike">
                <a:solidFill>
                  <a:srgbClr val="e6947a"/>
                </a:solidFill>
                <a:latin typeface="ParkAvenue BT"/>
              </a:rPr>
              <a:t>O</a:t>
            </a:r>
            <a:r>
              <a:rPr b="1" lang="en-US" sz="12000" spc="-1" strike="noStrike">
                <a:solidFill>
                  <a:srgbClr val="e37796"/>
                </a:solidFill>
                <a:latin typeface="ParkAvenue BT"/>
              </a:rPr>
              <a:t>N</a:t>
            </a:r>
            <a:r>
              <a:rPr b="1" lang="en-US" sz="12000" spc="-1" strike="noStrike">
                <a:solidFill>
                  <a:srgbClr val="eeb9a8"/>
                </a:solidFill>
                <a:latin typeface="ParkAvenue BT"/>
              </a:rPr>
              <a:t>I</a:t>
            </a:r>
            <a:r>
              <a:rPr b="1" lang="en-US" sz="12000" spc="-1" strike="noStrike">
                <a:solidFill>
                  <a:srgbClr val="e6947a"/>
                </a:solidFill>
                <a:latin typeface="ParkAvenue BT"/>
              </a:rPr>
              <a:t>E</a:t>
            </a:r>
            <a:r>
              <a:rPr b="1" lang="en-US" sz="12000" spc="-1" strike="noStrike">
                <a:solidFill>
                  <a:srgbClr val="e37796"/>
                </a:solidFill>
                <a:latin typeface="ParkAvenue BT"/>
              </a:rPr>
              <a:t>C</a:t>
            </a:r>
            <a:r>
              <a:rPr b="1" lang="en-US" sz="12000" spc="-1" strike="noStrike">
                <a:solidFill>
                  <a:srgbClr val="db5178"/>
                </a:solidFill>
                <a:latin typeface="ParkAvenue BT"/>
              </a:rPr>
              <a:t> </a:t>
            </a:r>
            <a:r>
              <a:rPr b="1" lang="en-US" sz="12000" spc="-1" strike="noStrike">
                <a:solidFill>
                  <a:srgbClr val="eeb9a8"/>
                </a:solidFill>
                <a:latin typeface="ParkAvenue BT"/>
              </a:rPr>
              <a:t>!</a:t>
            </a:r>
            <a:r>
              <a:rPr b="1" lang="en-US" sz="12000" spc="-1" strike="noStrike">
                <a:solidFill>
                  <a:srgbClr val="e6947a"/>
                </a:solidFill>
                <a:latin typeface="ParkAvenue BT"/>
              </a:rPr>
              <a:t>!</a:t>
            </a:r>
            <a:r>
              <a:rPr b="1" lang="en-US" sz="12000" spc="-1" strike="noStrike">
                <a:solidFill>
                  <a:srgbClr val="e37796"/>
                </a:solidFill>
                <a:latin typeface="ParkAvenue BT"/>
              </a:rPr>
              <a:t>!</a:t>
            </a:r>
            <a:endParaRPr b="1" lang="en-US" sz="12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95280" y="4724280"/>
            <a:ext cx="4330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f6737"/>
                </a:solidFill>
                <a:uFillTx/>
                <a:latin typeface="Garamond"/>
              </a:rPr>
              <a:t>Dziękuje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eeb9a8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6519960"/>
            <a:ext cx="254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Powrót do pierwszej strony</a:t>
            </a:r>
            <a:endParaRPr b="1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69564"/>
                </a:solidFill>
                <a:latin typeface="Monotype Corsiva"/>
              </a:rPr>
              <a:t>Spis treści cz.2</a:t>
            </a:r>
            <a:endParaRPr b="1" lang="en-US" sz="5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Wad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Cyberprzem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Wiru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Uzależnieni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Pornograf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Bezpieczeństwo- oprogramowa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Złote zasa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Warto wiedzie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b2500"/>
                </a:solidFill>
                <a:latin typeface="Garamond"/>
              </a:rPr>
              <a:t>Źródł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a69564"/>
          </a:solidFill>
          <a:ln w="28440">
            <a:solidFill>
              <a:srgbClr val="7a6c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924600">
            <a:off x="5651640" y="260280"/>
            <a:ext cx="1655640" cy="1298520"/>
          </a:xfrm>
          <a:prstGeom prst="rect">
            <a:avLst/>
          </a:prstGeom>
          <a:ln w="76320">
            <a:solidFill>
              <a:srgbClr val="ac8d4e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921400">
            <a:off x="6443280" y="4652640"/>
            <a:ext cx="1871640" cy="1862280"/>
          </a:xfrm>
          <a:prstGeom prst="rect">
            <a:avLst/>
          </a:prstGeom>
          <a:ln w="76320">
            <a:solidFill>
              <a:srgbClr val="ac8d4e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6e3aa"/>
                </a:solidFill>
                <a:latin typeface="Monotype Corsiva"/>
              </a:rPr>
              <a:t>Interne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c5932"/>
                </a:solidFill>
                <a:latin typeface="Garamond"/>
              </a:rPr>
              <a:t>Internet-</a:t>
            </a: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największa na świecie rozległa sie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komputerowa, która została oparta 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Protokole komunikacyjnym TCP/IP; począt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sieci sięgają 1969r., gdy w USA pojawiła si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Eksperymentalna sieć armii amerykański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ARPANet (Advanced research Projec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4c8"/>
                </a:solidFill>
                <a:latin typeface="Garamond"/>
              </a:rPr>
              <a:t>Agency Networ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554525"/>
          </a:solidFill>
          <a:ln w="57240">
            <a:solidFill>
              <a:srgbClr val="7f6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e6e3aa"/>
          </a:solidFill>
          <a:ln w="38160">
            <a:solidFill>
              <a:srgbClr val="b49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d8c1ba"/>
                </a:solidFill>
                <a:latin typeface="Garamond"/>
              </a:rPr>
              <a:t>Ciekawostka</a:t>
            </a:r>
            <a:r>
              <a:rPr b="1" i="1" lang="en-US" sz="5400" spc="-1" strike="noStrike">
                <a:solidFill>
                  <a:srgbClr val="d8c1ba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3f3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eeb9a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db517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55736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ce827c"/>
                </a:solidFill>
                <a:uFillTx/>
                <a:latin typeface="Garamond"/>
              </a:rPr>
              <a:t>„</a:t>
            </a:r>
            <a:r>
              <a:rPr b="1" i="1" lang="en-US" sz="2100" spc="-1" strike="noStrike" u="sng">
                <a:solidFill>
                  <a:srgbClr val="ce827c"/>
                </a:solidFill>
                <a:uFillTx/>
                <a:latin typeface="Garamond"/>
              </a:rPr>
              <a:t>Internet w Polsce „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7f3f3"/>
                </a:solidFill>
                <a:latin typeface="Garamond"/>
              </a:rPr>
              <a:t>Internet w Polsce dostępny jest oficjalnie od 20 grudnia 1991 roku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7f3f3"/>
                </a:solidFill>
                <a:latin typeface="Garamond"/>
              </a:rPr>
              <a:t>30 kwietnia 1991 w Centrum Komputerowym Uniwersytetu Kopenhaskiego, zarejestrowano krajową domenę najwyższego poziomu ".pl". 17 sierpnia 1991 z Wydziału Fizyki Uniwersytetu Warszawskiego zestawiono pierwsze, trwające 1 minutę, połączenie internetowe przy wykorzystaniu protokołu TCP/IP, z Centrum Komputerowym Uniwersytetu w Kopenhadze. 20 grudnia 1991 placówki naukowe Uniwersytetu Warszawskiego, Instytu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7f3f3"/>
                </a:solidFill>
                <a:latin typeface="Garamond"/>
              </a:rPr>
              <a:t>Fizyki  Jądrowej i Obserwatorium Astronomiczne oraz pojedyncze komputery W Krakowie, Toruniu i Katowicach zostały podłączone do Internetu. Tego Samego dnia Stany Zjednoczone zniosły ograniczenia w łączności z Polską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ddddd"/>
                </a:solidFill>
                <a:latin typeface="Garamond"/>
              </a:rPr>
              <a:t>Zalety internetu</a:t>
            </a:r>
            <a:endParaRPr b="1" lang="en-US" sz="5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Internet ma z pewnością wiele zalet. Jedną z nich jest swobodny i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całodobowy dostęp do informacji. Nie musimy już czekać na 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wiadomości w telewizji, czy w radiu, których czasami wysłuchać i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obejrzeć nie możemy. W innych mediach informuje nas się tylko o takich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wydarzeniach, które niby są najważniejsze. A ludzie chcą wiedzieć wszystko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co się dzieje wokół nich. Nie możemy zapomnieć także o tym, że Internet to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swego rodzaju bazą danych. Jedną z wielu zalet Internetu jest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także swobodna komunikacja między poszczególnymi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użytkownikami sieci. Dzięki temu nie musimy do nikogo wysyłać listów, a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nawet dzwonić Komunikacja się ona możliwa dzięki popularnym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Komunikatorom. oraz wszechobecnej poczcie elektronicznej. 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Dzięki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internetowi możemy się też zabawić poprzez wiele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gier, a także telewizji internetowej by obejrzeć zapomniany odcinek serialu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676c7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Wady internet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Internet w brew pozorom ma też wiele wad. Niekiedy w ogóle się na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nimi nie zastanawiamy. To w nieszkodliwym w naszym mniemani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internecie nasze dzieci natknąć mogą się z pornografią. Spotkać możn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się też z przemocą i niebezpieczeństwem. Podczas komunikacji z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nieznanymi dotąd osobami może stać się nam krzywda poniewa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nigdy nie wiemy kto jest po drugiej Stronie. Niekiedy bywa iż nasz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przywiązanie rodzi się w uzależnienie taki, z którego  ciężko jest się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oswobodzić. Internet, a nawet nie tylko on może tak szybko zniknąć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jak szybko się pojawił. Na świecie pojawiły się wiele wirusów, 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4b2500"/>
                </a:solidFill>
                <a:latin typeface="Garamond"/>
              </a:rPr>
              <a:t>niektóre przez przypadek możemy uaktywnić na swoim komputerze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a69564"/>
          </a:solidFill>
          <a:ln w="28440">
            <a:solidFill>
              <a:srgbClr val="7a6c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Komunikacja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dzisiejszych czasach istnieje wiele źróde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komunikacji. Najszybszym jednak jest chy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internet. To dzięki takim urządzeniom j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Gadu-Gadu czy Skype w mgnieniu 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możemy dowiedzieć się co zadane jest 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informatyki, ponieważ wczoraj nie było nas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szkole(pod warunkiem, ze mamy dobry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zyjaciół 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554525"/>
          </a:solidFill>
          <a:ln w="57240">
            <a:solidFill>
              <a:srgbClr val="7f6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e6e3aa"/>
          </a:solidFill>
          <a:ln w="38160">
            <a:solidFill>
              <a:srgbClr val="b493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Dostęp do informacji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W XXI wieku istnieje wiele źródeł informacji tj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radio czy telewizja. Wiadomości jedn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nadawane są o określonych porach i jeśli 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zdążymy ich wysłuchać, zawsze może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usiąść przed naszym dobrym przyjacie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komputerem. Odpowie on nam na wiele pyta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7f3f3"/>
                </a:solidFill>
                <a:latin typeface="Garamond"/>
              </a:rPr>
              <a:t>zarówno z matematyki jek i z fizyki, chemi itd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eeb9a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db5178"/>
          </a:solidFill>
          <a:ln w="381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5:32:43Z</dcterms:created>
  <dc:creator>Mateusz</dc:creator>
  <dc:description/>
  <dc:language>en-US</dc:language>
  <cp:lastModifiedBy>MaNiAc!</cp:lastModifiedBy>
  <dcterms:modified xsi:type="dcterms:W3CDTF">2012-06-20T13:21:42Z</dcterms:modified>
  <cp:revision>14</cp:revision>
  <dc:subject/>
  <dc:title>INTERNET -bezpieczne okno na  świat</dc:title>
</cp:coreProperties>
</file>